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5D47-81CF-4FC5-BF1A-47EBAB153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nding of enterotoxin  in plasma membrane of intestinal cells causes diarrhea with depression of water absorption from the intestine due to resulting altered transport of chloride and other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nsitive radioimmunoassay (RIA) and enzyme immunoassay (EIA) methods for assay have enabled accurate and specific measurements of hormones lev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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ne hormone can affect a given cell typ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mones can exert many different effects in one cell or in differen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ding to proteins helps to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 reservo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hormones cl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CF1B-5864-4EA6-99C7-4172E5FB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A995-77CA-4B54-BFD4-4F2E5E7B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55AF-032A-409C-9167-24A2CC58B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EA3-8BE5-4104-AA11-973D619A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EB3-ABC5-4876-A4F6-E769FDCD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FEBF-AEC2-4FB8-BD7B-B521727E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AEA8-7900-4701-BA22-D029910A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E9CE-B8E2-43C8-878E-290C86EF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772-A4E0-4142-912D-05A97F8E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DDBF-7701-46A1-8F00-582F9AA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E9BC-0E50-447B-96B4-B1F844EA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9898-3A57-4FDF-B27F-3BF1465D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C76C-709D-46AD-A231-2BC318377CA2}" type="slidenum">
              <a:rPr b="0" lang="ar-EG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857240"/>
            <a:ext cx="7772400" cy="1470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Mechanisms of hormone 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14680" y="3714480"/>
            <a:ext cx="5472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6a6a6"/>
                </a:solidFill>
                <a:latin typeface="Cambria"/>
              </a:rPr>
              <a:t>Endocrine 4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lippincot photos\c28\28_020.jpg"/>
          <p:cNvPicPr/>
          <p:nvPr/>
        </p:nvPicPr>
        <p:blipFill>
          <a:blip r:embed="rId1"/>
          <a:srcRect l="30551" t="-3332" r="32320" b="0"/>
          <a:stretch/>
        </p:blipFill>
        <p:spPr>
          <a:xfrm>
            <a:off x="3071880" y="2143080"/>
            <a:ext cx="3143160" cy="3143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Example of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Group I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hormones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: 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mbria"/>
              </a:rPr>
              <a:t>Retinoic acid </a:t>
            </a:r>
            <a:br>
              <a:rPr sz="2800"/>
            </a:b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(active product of vitamin 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796320" y="3500280"/>
            <a:ext cx="16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cl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6"/>
          <p:cNvCxnSpPr/>
          <p:nvPr/>
        </p:nvCxnSpPr>
        <p:spPr>
          <a:xfrm flipV="1">
            <a:off x="2356920" y="3286080"/>
            <a:ext cx="164412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Thyroid horm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Steroid hormon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Glucocorticoid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cortisol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Mineralocorticoid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aldester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Androgen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testosterone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Estroge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                         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Progestins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(e.g. progesterone hormo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Retinoic acid </a:t>
            </a:r>
            <a:r>
              <a:rPr b="0" lang="en-US" sz="2400" spc="-1" strike="noStrike">
                <a:solidFill>
                  <a:srgbClr val="0070c0"/>
                </a:solidFill>
                <a:latin typeface="Cambria"/>
              </a:rPr>
              <a:t>(active metabolite of vitamin 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Calcitriol </a:t>
            </a:r>
            <a:r>
              <a:rPr b="0" lang="en-US" sz="2400" spc="-1" strike="noStrike">
                <a:solidFill>
                  <a:srgbClr val="0070c0"/>
                </a:solidFill>
                <a:latin typeface="Cambria"/>
              </a:rPr>
              <a:t>(1, 25 DHCC, active metabolite of vitamin 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57120" y="1599840"/>
            <a:ext cx="8501040" cy="49719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s that bind to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plasma membrane (extra-cellular) receptors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olubility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hydrophili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Chemical composition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Polypeptides, proteins, glycoproteins &amp; catecholamin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3-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Transport in blood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  No transport protein- short plasma half-lif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5-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Mechanism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of  action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 binds to plasma membrane receptor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Hormone -receptor interaction leads to generation of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econd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messenger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intracellularly tha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communicates  (couples) hormones binding with intracellular metabolic  proces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70c0"/>
                </a:solidFill>
                <a:latin typeface="Cambria"/>
              </a:rPr>
              <a:t>Second messengers</a:t>
            </a: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1- cyclic AMP (cAM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2- cyclic GMP (cGMP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3- Calcium or phosphaitdyl inosiltol (or bot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70c0"/>
                </a:solidFill>
                <a:latin typeface="Cambria"/>
              </a:rPr>
              <a:t>4- Kinase cascad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501040" cy="101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lassification of hormones according to mechanism of action:</a:t>
            </a:r>
            <a:br>
              <a:rPr sz="2500"/>
            </a:b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Group II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Second Messenger: cA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lippincot photos\c08\08_007.jpg"/>
          <p:cNvPicPr/>
          <p:nvPr/>
        </p:nvPicPr>
        <p:blipFill>
          <a:blip r:embed="rId1"/>
          <a:srcRect l="13922" t="1473" r="9279" b="0"/>
          <a:stretch/>
        </p:blipFill>
        <p:spPr>
          <a:xfrm>
            <a:off x="611280" y="1628640"/>
            <a:ext cx="3744720" cy="50403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79" name="Picture 2" descr="C:\Users\ALWALY\Documents\lippincot photos\c11\11_012.jpg"/>
          <p:cNvPicPr/>
          <p:nvPr/>
        </p:nvPicPr>
        <p:blipFill>
          <a:blip r:embed="rId2"/>
          <a:srcRect l="26315" t="2974" r="22578" b="0"/>
          <a:stretch/>
        </p:blipFill>
        <p:spPr>
          <a:xfrm>
            <a:off x="4643280" y="1700280"/>
            <a:ext cx="3889440" cy="5157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cxnSp>
        <p:nvCxnSpPr>
          <p:cNvPr id="80" name="Straight Arrow Connector 6"/>
          <p:cNvCxnSpPr/>
          <p:nvPr/>
        </p:nvCxnSpPr>
        <p:spPr>
          <a:xfrm flipH="1">
            <a:off x="6071760" y="999720"/>
            <a:ext cx="286560" cy="1715400"/>
          </a:xfrm>
          <a:prstGeom prst="straightConnector1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1- 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cAMP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700" spc="-1" strike="noStrike">
                <a:solidFill>
                  <a:srgbClr val="0070c0"/>
                </a:solidFill>
                <a:latin typeface="Cambria"/>
              </a:rPr>
              <a:t>2</a:t>
            </a: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</a:t>
            </a:r>
            <a:r>
              <a:rPr b="1" lang="en-US" sz="1700" spc="-1" strike="noStrike">
                <a:solidFill>
                  <a:srgbClr val="0070c0"/>
                </a:solidFill>
                <a:latin typeface="Cambria"/>
              </a:rPr>
              <a:t>adrenergic</a:t>
            </a:r>
            <a:r>
              <a:rPr b="1" lang="en-US" sz="1700" spc="-1" strike="noStrike">
                <a:solidFill>
                  <a:srgbClr val="0070c0"/>
                </a:solidFill>
                <a:latin typeface="Symbol"/>
                <a:ea typeface="Symbol"/>
              </a:rPr>
              <a:t>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atecholam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drenocorticotropic Hormone (AC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iuretic Hormone 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alciton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Human Chorionic Gonadotropins (hCG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orticotropin-releasing hormone (C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Follicle Stimulating Hormone (FS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Leutinizing Hormone (L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lucag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potropin (LP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MSH (Melanocyte Stimulating Hormone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arathyroid Hormone (PT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Somatostat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yroid Stimulating Hormone (TS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cG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trial natriuretic peptide (ANP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Nitric Oxide (N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ere are two isoforms of guanylate cyclase involved in production of cGM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membrane-bound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uanylate cyclase ( for ANP &amp; bacterial endotoxi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ytosolic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uanylate cyclase (for N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23880" y="1649520"/>
            <a:ext cx="6477120" cy="500364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3809880" y="3352680"/>
            <a:ext cx="609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3581280" y="2185920"/>
            <a:ext cx="6098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3429000" y="1981080"/>
            <a:ext cx="1143000" cy="1828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-109800" y="2643120"/>
            <a:ext cx="283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GC: Gunaylate cy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Second messenger cGMP: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Atrial Natriuretic Pep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>
            <a:off x="1714680" y="2928600"/>
            <a:ext cx="2071800" cy="214920"/>
          </a:xfrm>
          <a:prstGeom prst="straightConnector1">
            <a:avLst/>
          </a:prstGeom>
          <a:ln w="38160">
            <a:solidFill>
              <a:srgbClr val="4a7ebb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NO signaling"/>
          <p:cNvPicPr/>
          <p:nvPr/>
        </p:nvPicPr>
        <p:blipFill>
          <a:blip r:embed="rId1"/>
          <a:stretch/>
        </p:blipFill>
        <p:spPr>
          <a:xfrm>
            <a:off x="0" y="700200"/>
            <a:ext cx="6934320" cy="5850000"/>
          </a:xfrm>
          <a:prstGeom prst="rect">
            <a:avLst/>
          </a:prstGeom>
          <a:ln w="0">
            <a:noFill/>
          </a:ln>
        </p:spPr>
      </p:pic>
      <p:sp>
        <p:nvSpPr>
          <p:cNvPr id="94" name="Oval 3"/>
          <p:cNvSpPr/>
          <p:nvPr/>
        </p:nvSpPr>
        <p:spPr>
          <a:xfrm>
            <a:off x="3505320" y="2046240"/>
            <a:ext cx="13716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"/>
          <p:cNvSpPr/>
          <p:nvPr/>
        </p:nvSpPr>
        <p:spPr>
          <a:xfrm>
            <a:off x="3276720" y="5987880"/>
            <a:ext cx="121896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3733920" y="36259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673680" y="1066680"/>
            <a:ext cx="247032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r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nt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5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o heme moiety of guanylate cycl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ational change of the enzy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activity (production of cGM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ation of activity of other proteins (protein kinases, phospho-diesterases, ion channe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siological response (relaxation of smooth muscles, inhibition of platelet aggregation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>
            <a:off x="7738920" y="13809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7738920" y="19144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7738920" y="2600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7738920" y="33624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7738920" y="39718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777240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609480" y="15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NO• signaling in physi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6400800" y="16002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-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6934320" y="17524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8077320" y="17524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8305920" y="16002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O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F:\lippincot photos\c17\17_008.jpg"/>
          <p:cNvPicPr/>
          <p:nvPr/>
        </p:nvPicPr>
        <p:blipFill>
          <a:blip r:embed="rId1"/>
          <a:stretch/>
        </p:blipFill>
        <p:spPr>
          <a:xfrm>
            <a:off x="1357200" y="1571760"/>
            <a:ext cx="6429600" cy="48114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Second Messenger: Phosphatidyl inositol &amp; 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Straight Arrow Connector 5"/>
          <p:cNvCxnSpPr/>
          <p:nvPr/>
        </p:nvCxnSpPr>
        <p:spPr>
          <a:xfrm flipH="1">
            <a:off x="4714200" y="1071360"/>
            <a:ext cx="572040" cy="128628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12" name="Straight Arrow Connector 8"/>
          <p:cNvCxnSpPr/>
          <p:nvPr/>
        </p:nvCxnSpPr>
        <p:spPr>
          <a:xfrm flipH="1">
            <a:off x="6643800" y="1071360"/>
            <a:ext cx="643320" cy="1572120"/>
          </a:xfrm>
          <a:prstGeom prst="straightConnector1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phosphatidyl inositol or calcium  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(or both togeth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cetylcholine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1 adrenergic catecholami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giotensin I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euretic Hormone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holecystokin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ast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onadotropin –Releasing  Hormone (Gn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Oxytoc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latelet Derived Growth Factor (PD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Substance 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hyrotropin Releasing Hormone  (TR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600200"/>
            <a:ext cx="850104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fining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hormones </a:t>
            </a: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and their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classification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the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general characteristics of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Identifying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factors determining the response of target cells to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Describing the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different mechanisms of action of hormone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hormones that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 bind to cell surface receptor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Cambria"/>
              </a:rPr>
              <a:t>Listing hormones that </a:t>
            </a:r>
            <a:r>
              <a:rPr b="1" lang="en-US" sz="1900" spc="-1" strike="noStrike">
                <a:solidFill>
                  <a:srgbClr val="002060"/>
                </a:solidFill>
                <a:latin typeface="Cambria"/>
              </a:rPr>
              <a:t>bind to intracellular receptor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Users\ALWALY\Documents\lippincot photos\c23\23_007.jpg"/>
          <p:cNvPicPr/>
          <p:nvPr/>
        </p:nvPicPr>
        <p:blipFill>
          <a:blip r:embed="rId1"/>
          <a:stretch/>
        </p:blipFill>
        <p:spPr>
          <a:xfrm>
            <a:off x="3929040" y="1698480"/>
            <a:ext cx="4786200" cy="51595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357120" y="1785960"/>
            <a:ext cx="4714920" cy="42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Binding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on </a:t>
            </a:r>
            <a:r>
              <a:rPr b="1" lang="en-US" sz="1400" spc="-1" strike="noStrike">
                <a:solidFill>
                  <a:srgbClr val="0070c0"/>
                </a:solidFill>
                <a:latin typeface="Symbol"/>
                <a:ea typeface="Symbol"/>
              </a:rPr>
              <a:t>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-sub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ce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Phosphory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</a:t>
            </a:r>
            <a:r>
              <a:rPr b="1" lang="en-US" sz="1400" spc="-1" strike="noStrike">
                <a:solidFill>
                  <a:srgbClr val="0070c0"/>
                </a:solidFill>
                <a:latin typeface="Symbol"/>
                <a:ea typeface="Symbol"/>
              </a:rPr>
              <a:t>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-subun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cep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Phosphory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of insulin response substrates (IRS)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IN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Gene                             Metabolism           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6"/>
          <p:cNvCxnSpPr/>
          <p:nvPr/>
        </p:nvCxnSpPr>
        <p:spPr>
          <a:xfrm flipH="1">
            <a:off x="2499480" y="250020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8"/>
          <p:cNvCxnSpPr/>
          <p:nvPr/>
        </p:nvCxnSpPr>
        <p:spPr>
          <a:xfrm flipH="1">
            <a:off x="2571480" y="335772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10"/>
          <p:cNvCxnSpPr/>
          <p:nvPr/>
        </p:nvCxnSpPr>
        <p:spPr>
          <a:xfrm flipH="1">
            <a:off x="2571480" y="421452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0" name="Straight Arrow Connector 12"/>
          <p:cNvCxnSpPr/>
          <p:nvPr/>
        </p:nvCxnSpPr>
        <p:spPr>
          <a:xfrm flipH="1">
            <a:off x="1142640" y="5143680"/>
            <a:ext cx="128664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Straight Arrow Connector 14"/>
          <p:cNvCxnSpPr/>
          <p:nvPr/>
        </p:nvCxnSpPr>
        <p:spPr>
          <a:xfrm>
            <a:off x="2642040" y="521460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2" name="Straight Arrow Connector 16"/>
          <p:cNvCxnSpPr/>
          <p:nvPr/>
        </p:nvCxnSpPr>
        <p:spPr>
          <a:xfrm>
            <a:off x="2857320" y="5214960"/>
            <a:ext cx="1143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Second Messenger: Kinase cascad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          (for insulin hormone)</a:t>
            </a: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1- Second messenger is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kinase cascade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horionic somatomammotropin (C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Epidermal Growth factor (E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Erythropoeitin  (EP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Antideuretic Hormone (AD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Fibroblast Growth Factors (F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Growth Hormone (GH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nsul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Insulin-like Growth factors (IGF-I &amp; IGF-II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Nerve Growth Factor (N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latelet Derived Growth Factor (PDGF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Prolactin (PR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List of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ambria"/>
              </a:rPr>
              <a:t>Group II </a:t>
            </a:r>
            <a:r>
              <a:rPr b="1" i="1" lang="en-US" sz="3200" spc="-1" strike="noStrike">
                <a:solidFill>
                  <a:srgbClr val="ff0000"/>
                </a:solidFill>
                <a:latin typeface="Cambria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General characteristics of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0070c0"/>
                </a:solidFill>
                <a:latin typeface="Cambria"/>
              </a:rPr>
              <a:t>Hormones</a:t>
            </a:r>
            <a:r>
              <a:rPr b="0" i="1" lang="en-US" sz="3700" spc="-1" strike="noStrike">
                <a:solidFill>
                  <a:srgbClr val="0070c0"/>
                </a:solidFill>
                <a:latin typeface="Cambria"/>
              </a:rPr>
              <a:t> 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molecules that are produced by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al cells 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(</a:t>
            </a:r>
            <a:r>
              <a:rPr b="0" lang="en-US" sz="1900" spc="-1" strike="noStrike" u="sng">
                <a:solidFill>
                  <a:srgbClr val="0070c0"/>
                </a:solidFill>
                <a:uFillTx/>
                <a:latin typeface="Cambria"/>
              </a:rPr>
              <a:t>not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by all cells of the bod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secreted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directly to blood 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(with no duc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availabl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in very low concentrations in bl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are transported in blood to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work in distant sit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ystemic a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fic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receptors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 (either intra- or extra-cellular ) in target tissue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have different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special</a:t>
            </a:r>
            <a:r>
              <a:rPr b="0" lang="en-US" sz="19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900" spc="-1" strike="noStrike">
                <a:solidFill>
                  <a:srgbClr val="0070c0"/>
                </a:solidFill>
                <a:latin typeface="Cambria"/>
              </a:rPr>
              <a:t>mechanisms of ac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mbria"/>
              </a:rPr>
              <a:t>Receptors of hormo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Hormones are present in very low concentrations in extracellular fluids (e.g. blood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In order to initiate their biologic effects, target cells must recognize hormones by binding to specific recepto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A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target cell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is defined by its ability to bind selectively a given hormone via a recept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Receptors have at least </a:t>
            </a:r>
            <a:r>
              <a:rPr b="1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2 DOMAIN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Recognitio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domai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 binds to the horm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Coupling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r>
              <a:rPr b="1" lang="en-US" sz="1600" spc="-1" strike="noStrike">
                <a:solidFill>
                  <a:srgbClr val="0070c0"/>
                </a:solidFill>
                <a:latin typeface="Cambria"/>
              </a:rPr>
              <a:t>domain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: couples hormone recognition to some  intracellular function b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   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generating a sig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Generally, COUPLING occurs by two way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1- Polypeptide hormones, protein hormones &amp; catecholamines  binding of hormones 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plasma membrane receptors (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extracellular receptor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2- Steroid &amp; thyroid hormones interact with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intracellular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 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Cambria"/>
              </a:rPr>
              <a:t>receptors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, form complexes th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600" spc="-1" strike="noStrike">
                <a:solidFill>
                  <a:srgbClr val="0070c0"/>
                </a:solidFill>
                <a:latin typeface="Cambria"/>
              </a:rPr>
              <a:t>generates a sig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1-Rate of production: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Synthesis and secretion of hormones are the most highly regul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aspect of endocrine control. Such control is mediated by positive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negative feedback circu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2928960" y="3786120"/>
            <a:ext cx="3143160" cy="2222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The concentration of hormone as seen by target cells is determined by three factors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2-Rate of delivery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An example of this effect is blood flow to a target organ or group of target cells –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igh blood flow delivers more hormone than low blood flo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Cambria"/>
              </a:rPr>
              <a:t>3-Rate of degradation and elimination:</a:t>
            </a:r>
            <a:r>
              <a:rPr b="1" lang="en-US" sz="1800" spc="-1" strike="noStrike">
                <a:solidFill>
                  <a:srgbClr val="0070c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ormones, like all biomolecules, have characteristic rates of decay, and a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metabolized and excreted from the body through several rout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70c0"/>
                </a:solidFill>
                <a:uFillTx/>
                <a:latin typeface="Cambria"/>
              </a:rPr>
              <a:t>Hormones are cleared by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1- Metabolic destruction by t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2- Binding with t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3- Excretion by the liver into b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4- Excretion by the kidney into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5- Clearance of protein bound hormones is slower than clearance of peptid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800" spc="-1" strike="noStrike">
                <a:solidFill>
                  <a:srgbClr val="0070c0"/>
                </a:solidFill>
                <a:latin typeface="Cambria"/>
              </a:rPr>
              <a:t>horm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The concentration of hormone as seen by target cells is determined by three factors: </a:t>
            </a:r>
            <a:r>
              <a:rPr b="0" i="1" lang="en-US" sz="2000" spc="-1" strike="noStrike">
                <a:solidFill>
                  <a:srgbClr val="ff0000"/>
                </a:solidFill>
                <a:latin typeface="Cambria"/>
              </a:rPr>
              <a:t>(cont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mbria"/>
              </a:rPr>
              <a:t>Classifications of horm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Hormones are classified </a:t>
            </a:r>
            <a:r>
              <a:rPr b="1" i="1" lang="en-US" sz="2400" spc="-1" strike="noStrike" u="sng">
                <a:solidFill>
                  <a:srgbClr val="0070c0"/>
                </a:solidFill>
                <a:uFillTx/>
                <a:latin typeface="Cambria"/>
              </a:rPr>
              <a:t>according</a:t>
            </a:r>
            <a:r>
              <a:rPr b="1" i="1" lang="en-US" sz="2400" spc="-1" strike="noStrike">
                <a:solidFill>
                  <a:srgbClr val="0070c0"/>
                </a:solidFill>
                <a:latin typeface="Cambria"/>
              </a:rPr>
              <a:t> to</a:t>
            </a:r>
            <a:r>
              <a:rPr b="1" lang="en-US" sz="2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1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Chemical</a:t>
            </a:r>
            <a:r>
              <a:rPr b="1" i="1" lang="en-US" sz="2000" spc="-1" strike="noStrike">
                <a:solidFill>
                  <a:srgbClr val="0070c0"/>
                </a:solidFill>
                <a:latin typeface="Cambria"/>
              </a:rPr>
              <a:t> composition 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(protein or othe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2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Solubility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(hydrophilic or lipophil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3- 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Location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of receptors (intra- or extra-cellul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4-  Nature of </a:t>
            </a:r>
            <a:r>
              <a:rPr b="1" i="1" lang="en-US" sz="2000" spc="-1" strike="noStrike" u="sng">
                <a:solidFill>
                  <a:srgbClr val="0070c0"/>
                </a:solidFill>
                <a:uFillTx/>
                <a:latin typeface="Cambria"/>
              </a:rPr>
              <a:t>signal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used to mediate hormone action within 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According to classifications 3 &amp; 4, hormones are classified in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Group I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 &amp; 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Group 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according to mechanism of action</a:t>
            </a:r>
            <a:r>
              <a:rPr b="1" lang="en-US" sz="2000" spc="-1" strike="noStrike">
                <a:solidFill>
                  <a:srgbClr val="0070c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0112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en-US" sz="2000" spc="-1" strike="noStrike">
                <a:solidFill>
                  <a:srgbClr val="ff0000"/>
                </a:solidFill>
                <a:latin typeface="Cambria"/>
              </a:rPr>
              <a:t>Classification of hormones according to mechanism of action:</a:t>
            </a:r>
            <a:br>
              <a:rPr sz="2500"/>
            </a:br>
            <a:r>
              <a:rPr b="1" i="1" lang="en-US" sz="4000" spc="-1" strike="noStrike">
                <a:solidFill>
                  <a:srgbClr val="ff0000"/>
                </a:solidFill>
                <a:latin typeface="Cambria"/>
              </a:rPr>
              <a:t>Group I</a:t>
            </a: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428480"/>
            <a:ext cx="850104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Hormones that bind to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intracellular receptors  (cytosolic or nucleus)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1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Solubility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lipophilic  (to pass cell membrane  which is mainly lipi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2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Chemical composi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Derived from cholesterol (except: thyroid hormones &amp; retinoic aci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3- </a:t>
            </a: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Transport in blood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Associate with transport proteins (to tackle solubility proble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Long plasma half-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Cambria"/>
              </a:rPr>
              <a:t>5-Mechanism of  ac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1- Free hormone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traverses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plasma membrane of cells &amp; binds to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receptor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in cytosol or nucleus  of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target cel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2- Hormone-receptor complex binds to specific region in DNA of gene (hormone-response element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HRE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3- Binding causes activation or inactivation of specific gene(s)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mbria"/>
              </a:rPr>
              <a:t>transcription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(production of mRN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4- Accordingly, amount of </a:t>
            </a:r>
            <a:r>
              <a:rPr b="0" lang="en-US" sz="1400" spc="-1" strike="noStrike" u="sng">
                <a:solidFill>
                  <a:srgbClr val="0070c0"/>
                </a:solidFill>
                <a:uFillTx/>
                <a:latin typeface="Cambria"/>
              </a:rPr>
              <a:t>protein synthesis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(production) is changed (protein may be enzymes of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metabolic react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      </a:t>
            </a:r>
            <a:r>
              <a:rPr b="0" lang="en-US" sz="1400" spc="-1" strike="noStrike">
                <a:solidFill>
                  <a:srgbClr val="0070c0"/>
                </a:solidFill>
                <a:latin typeface="Cambria"/>
              </a:rPr>
              <a:t>5- Accordingly,  certain metabolic processes are affect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mbria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Example of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Cambria"/>
              </a:rPr>
              <a:t>Group I</a:t>
            </a:r>
            <a:r>
              <a:rPr b="1" i="1" lang="en-US" sz="2800" spc="-1" strike="noStrike">
                <a:solidFill>
                  <a:srgbClr val="ff0000"/>
                </a:solidFill>
                <a:latin typeface="Cambria"/>
              </a:rPr>
              <a:t> hormones: </a:t>
            </a:r>
            <a:br>
              <a:rPr sz="2800"/>
            </a:br>
            <a:r>
              <a:rPr b="1" i="1" lang="en-US" sz="2800" spc="-1" strike="noStrike">
                <a:solidFill>
                  <a:srgbClr val="0070c0"/>
                </a:solidFill>
                <a:latin typeface="Cambria"/>
              </a:rPr>
              <a:t>Steroid horm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lippincot photos\c18\18_028.jpg"/>
          <p:cNvPicPr/>
          <p:nvPr/>
        </p:nvPicPr>
        <p:blipFill>
          <a:blip r:embed="rId1"/>
          <a:stretch/>
        </p:blipFill>
        <p:spPr>
          <a:xfrm>
            <a:off x="1785960" y="1785960"/>
            <a:ext cx="5286240" cy="4525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153440" y="3000240"/>
            <a:ext cx="166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ytosol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5"/>
          <p:cNvCxnSpPr>
            <a:stCxn id="67" idx="3"/>
          </p:cNvCxnSpPr>
          <p:nvPr/>
        </p:nvCxnSpPr>
        <p:spPr>
          <a:xfrm flipV="1">
            <a:off x="2833200" y="2714040"/>
            <a:ext cx="1024920" cy="70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08:43:11Z</dcterms:created>
  <dc:creator>ALWALY</dc:creator>
  <dc:description/>
  <dc:language>en-US</dc:language>
  <cp:lastModifiedBy>ALWALY</cp:lastModifiedBy>
  <dcterms:modified xsi:type="dcterms:W3CDTF">2012-09-09T17:47:59Z</dcterms:modified>
  <cp:revision>149</cp:revision>
  <dc:subject/>
  <dc:title>Slide 1</dc:title>
</cp:coreProperties>
</file>